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IS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27C-1D2F-4B3C-9675-BC33047D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20B-DC07-486C-9098-7ED6A42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5E1-BDB1-48DC-B0E9-AFBD1768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FD8-9A53-4F5E-B932-8F843D5E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2E8-6DE0-45EE-9F24-F8EC145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553-CC39-4B03-86C5-24ABBB3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DFA-C78D-4DC4-BA1E-1B9A953B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963-D12C-4B61-8A0F-02AF709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D3A-2364-4B76-BF2D-98D933A0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A82-EB62-465E-A93A-2BE53CE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5FA-9B2D-41D5-96EC-A643E7E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67E-D90A-478C-B50A-33BE3B3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BD13-F4E8-4565-B416-7404675F6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IS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d60093"/>
                </a:solidFill>
                <a:uFillTx/>
                <a:latin typeface="Times New Roman"/>
              </a:rPr>
              <a:t>CALCUL MENT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010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66"/>
                </a:solidFill>
                <a:uFillTx/>
                <a:latin typeface="Times New Roman"/>
              </a:rPr>
              <a:t>Puissance de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191120"/>
            <a:ext cx="4419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Bruno DELAC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Collège de MASEV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58672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our éviter les coups d ’oeil inopportuns aux conséquences parfois fâcheuses deux élèves voisins répondent aux questions de couleurs différentes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7200" y="4572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92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8200" y="4539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97180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4100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20040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0552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24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080" y="3808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188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dix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240" y="4190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08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880" y="4158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dix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60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44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0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di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di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60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344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0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1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0,000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35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45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10 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0,000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4920" y="2667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9760" y="1522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5920" y="26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0,00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1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41904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4680" y="304920"/>
            <a:ext cx="2280960" cy="106344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0480" y="41580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0,00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1 000 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22543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ffffff"/>
                </a:solidFill>
                <a:uFillTx/>
                <a:latin typeface="Times New Roman"/>
              </a:rPr>
              <a:t>Ecrire sous forme de 10</a:t>
            </a:r>
            <a:r>
              <a:rPr b="0" lang="fr-FR" sz="48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fr-FR" sz="4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(n entier relatif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920" y="4953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9760" y="3808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5920" y="4921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19720"/>
            <a:ext cx="51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ent milli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438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dix-milliard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9840" y="2667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4680" y="15228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480" y="26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19720"/>
            <a:ext cx="51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ent milli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dix-milliard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480" y="304920"/>
            <a:ext cx="2577960" cy="106344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37080" y="41580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743200"/>
            <a:ext cx="51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Dix milli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952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 dix-million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5760" y="419040"/>
            <a:ext cx="19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080" y="304920"/>
            <a:ext cx="2577960" cy="1063440"/>
          </a:xfrm>
          <a:custGeom>
            <a:avLst/>
            <a:gdLst>
              <a:gd name="textAreaLeft" fmla="*/ 95400 w 2577960"/>
              <a:gd name="textAreaRight" fmla="*/ 2482560 w 257796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1520" y="415800"/>
            <a:ext cx="267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743200"/>
            <a:ext cx="51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Dix milli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952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n dix-million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266688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99"/>
                </a:solidFill>
                <a:latin typeface="Times New Roman"/>
              </a:rPr>
              <a:t>Poser les sty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680" y="53352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éparez-v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419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OTE M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TE FENE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680" y="9144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120" y="102564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419720"/>
            <a:ext cx="306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7040" y="800280"/>
            <a:ext cx="15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685800"/>
            <a:ext cx="2280960" cy="1063800"/>
          </a:xfrm>
          <a:custGeom>
            <a:avLst/>
            <a:gdLst>
              <a:gd name="textAreaLeft" fmla="*/ 84240 w 2280960"/>
              <a:gd name="textAreaRight" fmla="*/ 2196720 w 228096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797040"/>
            <a:ext cx="2187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419720"/>
            <a:ext cx="306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centi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200" y="84132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2040" y="72720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8200" y="83808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00" y="91440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2040" y="800280"/>
            <a:ext cx="2281320" cy="106344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440"/>
              <a:gd name="textAreaBottom" fmla="*/ 849240 h 1063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8200" y="91116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un milliè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ent 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3520" y="95256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83808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4520" y="9493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dix mi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milli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42120" y="343080"/>
            <a:ext cx="173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c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6960" y="228600"/>
            <a:ext cx="2281320" cy="1063800"/>
          </a:xfrm>
          <a:custGeom>
            <a:avLst/>
            <a:gdLst>
              <a:gd name="textAreaLeft" fmla="*/ 84240 w 2281320"/>
              <a:gd name="textAreaRight" fmla="*/ 2197080 w 2281320"/>
              <a:gd name="textAreaTop" fmla="*/ 39240 h 1063800"/>
              <a:gd name="textAreaBottom" fmla="*/ 849600 h 1063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15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3120" y="33984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41972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dix mil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438280"/>
            <a:ext cx="30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Un milli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ull dir="d"/>
    <p:sndAc>
      <p:stSnd>
        <p:snd r:embed="rId1" name="CAIS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4T07:33:09Z</dcterms:created>
  <dc:creator>Delacote</dc:creator>
  <dc:description/>
  <dc:language>en-US</dc:language>
  <cp:lastModifiedBy>Delacote</cp:lastModifiedBy>
  <dcterms:modified xsi:type="dcterms:W3CDTF">2000-11-22T15:03:16Z</dcterms:modified>
  <cp:revision>15</cp:revision>
  <dc:subject/>
  <dc:title>Aucun titre de diapositive</dc:title>
</cp:coreProperties>
</file>