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ISSE.WAV" ContentType="audio/x-wav"/>
  <Override PartName="/ppt/media/Crissement%20de%20frein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E3C5-DE1D-41A3-B354-62BCF3D5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A7D5-DDBC-42B6-9B1E-47D2921D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5B6A-0CDB-4240-BB5E-5B31A6A4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6CA6-8ED5-414A-A12C-5EEF57B4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A5F7-731A-4D28-AAF8-C8FD8A73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317F-1B79-497E-84CD-00148C9A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95C-35FC-429C-B0A8-AF79FD30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5AEA-0C41-4F86-A960-1F5D6877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633-D2AD-4158-A2FB-759BB3D4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A93-EE96-4C2C-B693-29515A31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22BF-42B6-4495-84EB-6D9F23E7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6657-675D-4807-88DA-250E04EB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B443-29B9-426B-9443-E9D3285BB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rissement%20de%20frein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rissement%20de%20frein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rissement%20de%20frein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rissement%20de%20frein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rissement%20de%20frein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rissement%20de%20frein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rissement%20de%20frein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rissement%20de%20frein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rissement%20de%20frein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d60093"/>
                </a:solidFill>
                <a:uFillTx/>
                <a:latin typeface="Times New Roman"/>
              </a:rPr>
              <a:t>CALCUL MENTA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2362320"/>
            <a:ext cx="7010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66"/>
                </a:solidFill>
                <a:uFillTx/>
                <a:latin typeface="Times New Roman"/>
              </a:rPr>
              <a:t>Ecrire sous forme 10</a:t>
            </a:r>
            <a:r>
              <a:rPr b="0" lang="en-US" sz="4000" spc="-1" strike="noStrike" baseline="30000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4191120"/>
            <a:ext cx="4419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Bruno DELAC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Collège de MASEV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5867280"/>
            <a:ext cx="396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Pour éviter les coups d ’oeil inopportuns aux conséquences parfois fâcheuses deux élèves voisins répondent aux questions de couleurs différentes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3520" y="4953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38088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4520" y="4921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78520" y="44956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100 000 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514600"/>
            <a:ext cx="40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1 / 10 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1240" y="4953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6080" y="380880"/>
            <a:ext cx="2280960" cy="1063800"/>
          </a:xfrm>
          <a:custGeom>
            <a:avLst/>
            <a:gdLst>
              <a:gd name="textAreaLeft" fmla="*/ 84240 w 2280960"/>
              <a:gd name="textAreaRight" fmla="*/ 2196720 w 228096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1880" y="4921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78520" y="44956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1 / 100 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514600"/>
            <a:ext cx="40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10 000 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1240" y="41904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6080" y="304920"/>
            <a:ext cx="2280960" cy="1063440"/>
          </a:xfrm>
          <a:custGeom>
            <a:avLst/>
            <a:gdLst>
              <a:gd name="textAreaLeft" fmla="*/ 84240 w 2280960"/>
              <a:gd name="textAreaRight" fmla="*/ 2196720 w 2280960"/>
              <a:gd name="textAreaTop" fmla="*/ 39240 h 1063440"/>
              <a:gd name="textAreaBottom" fmla="*/ 849240 h 1063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1880" y="41580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78520" y="44956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1 / 100 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514600"/>
            <a:ext cx="40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10 000 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8600" y="34308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3440" y="22860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00" y="33984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78520" y="44956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10 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514600"/>
            <a:ext cx="407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10 000 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200400"/>
            <a:ext cx="236232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3520" y="4953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38088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4520" y="4921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78520" y="44956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10 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514600"/>
            <a:ext cx="407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10 000 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3276720"/>
            <a:ext cx="297180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8600" y="34308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3440" y="22860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00" y="33984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78520" y="449568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1 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514600"/>
            <a:ext cx="40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1 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48520" y="5334120"/>
            <a:ext cx="16761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3520" y="4953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38088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4520" y="4921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78520" y="449568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1 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514600"/>
            <a:ext cx="40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1 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5334120"/>
            <a:ext cx="16761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4920" y="2667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9760" y="15228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5920" y="2635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78520" y="44956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1000 </a:t>
            </a:r>
            <a:r>
              <a:rPr b="0" i="1" lang="en-US" sz="48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514600"/>
            <a:ext cx="40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100 </a:t>
            </a:r>
            <a:r>
              <a:rPr b="0" i="1" lang="en-US" sz="4400" spc="-1" strike="noStrike" baseline="30000">
                <a:solidFill>
                  <a:srgbClr val="66ff33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9840" y="41904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4680" y="304920"/>
            <a:ext cx="2280960" cy="1063440"/>
          </a:xfrm>
          <a:custGeom>
            <a:avLst/>
            <a:gdLst>
              <a:gd name="textAreaLeft" fmla="*/ 84240 w 2280960"/>
              <a:gd name="textAreaRight" fmla="*/ 2196720 w 2280960"/>
              <a:gd name="textAreaTop" fmla="*/ 39240 h 1063440"/>
              <a:gd name="textAreaBottom" fmla="*/ 849240 h 1063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0480" y="41580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78520" y="44956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1000 </a:t>
            </a:r>
            <a:r>
              <a:rPr b="0" i="1" lang="en-US" sz="48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514600"/>
            <a:ext cx="40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100 </a:t>
            </a:r>
            <a:r>
              <a:rPr b="0" i="1" lang="en-US" sz="4400" spc="-1" strike="noStrike" baseline="30000">
                <a:solidFill>
                  <a:srgbClr val="66ff33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4920" y="4953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9760" y="38088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5920" y="4921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78520" y="44956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dix mill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514600"/>
            <a:ext cx="40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un cent milliè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62680" y="533520"/>
            <a:ext cx="454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réparez-vo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15000" y="4419720"/>
            <a:ext cx="289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COTE BLE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304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COTE V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9840" y="2667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4680" y="152280"/>
            <a:ext cx="2280960" cy="1063800"/>
          </a:xfrm>
          <a:custGeom>
            <a:avLst/>
            <a:gdLst>
              <a:gd name="textAreaLeft" fmla="*/ 84240 w 2280960"/>
              <a:gd name="textAreaRight" fmla="*/ 2196720 w 228096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0480" y="2635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78520" y="44956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dix mill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514600"/>
            <a:ext cx="40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un cent milliè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480" y="304920"/>
            <a:ext cx="2577960" cy="1063440"/>
          </a:xfrm>
          <a:custGeom>
            <a:avLst/>
            <a:gdLst>
              <a:gd name="textAreaLeft" fmla="*/ 95400 w 2577960"/>
              <a:gd name="textAreaRight" fmla="*/ 2482560 w 2577960"/>
              <a:gd name="textAreaTop" fmla="*/ 39240 h 1063440"/>
              <a:gd name="textAreaBottom" fmla="*/ 849240 h 1063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37080" y="415800"/>
            <a:ext cx="267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4495680"/>
            <a:ext cx="56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un dix-millioniè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514600"/>
            <a:ext cx="40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cent mi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5760" y="419040"/>
            <a:ext cx="190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6080" y="304920"/>
            <a:ext cx="2577960" cy="1063440"/>
          </a:xfrm>
          <a:custGeom>
            <a:avLst/>
            <a:gdLst>
              <a:gd name="textAreaLeft" fmla="*/ 95400 w 2577960"/>
              <a:gd name="textAreaRight" fmla="*/ 2482560 w 2577960"/>
              <a:gd name="textAreaTop" fmla="*/ 39240 h 1063440"/>
              <a:gd name="textAreaBottom" fmla="*/ 849240 h 1063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1520" y="415800"/>
            <a:ext cx="267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495680"/>
            <a:ext cx="56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un dix-millioniè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514600"/>
            <a:ext cx="40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cent mi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09680" y="2666880"/>
            <a:ext cx="5334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99"/>
                </a:solidFill>
                <a:latin typeface="Times New Roman"/>
              </a:rPr>
              <a:t>Poser les styl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680" y="91440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9120" y="1025640"/>
            <a:ext cx="2187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441972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Dix mil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438280"/>
            <a:ext cx="304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Un centiè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7040" y="800280"/>
            <a:ext cx="154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000" y="685800"/>
            <a:ext cx="2280960" cy="1063800"/>
          </a:xfrm>
          <a:custGeom>
            <a:avLst/>
            <a:gdLst>
              <a:gd name="textAreaLeft" fmla="*/ 84240 w 2280960"/>
              <a:gd name="textAreaRight" fmla="*/ 2196720 w 228096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5440" y="797040"/>
            <a:ext cx="2187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441972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Dix mil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438280"/>
            <a:ext cx="304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Un centiè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7200" y="84132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2040" y="727200"/>
            <a:ext cx="2281320" cy="106344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440"/>
              <a:gd name="textAreaBottom" fmla="*/ 849240 h 1063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8200" y="83808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78520" y="44956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Un milliè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514600"/>
            <a:ext cx="40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Cent mi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7200" y="91440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2040" y="800280"/>
            <a:ext cx="2281320" cy="106344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440"/>
              <a:gd name="textAreaBottom" fmla="*/ 849240 h 1063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8200" y="91116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78520" y="44956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Un milliè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514600"/>
            <a:ext cx="40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Cent mi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5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3520" y="9525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83808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4520" y="9493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78520" y="44956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Dix mill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514600"/>
            <a:ext cx="40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Mille milli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42120" y="34308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6960" y="22860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3120" y="33984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78520" y="44956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Dix mill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514600"/>
            <a:ext cx="40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Mille milli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7200" y="45720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5920" y="304920"/>
            <a:ext cx="2280960" cy="1063440"/>
          </a:xfrm>
          <a:custGeom>
            <a:avLst/>
            <a:gdLst>
              <a:gd name="textAreaLeft" fmla="*/ 84240 w 2280960"/>
              <a:gd name="textAreaRight" fmla="*/ 2196720 w 2280960"/>
              <a:gd name="textAreaTop" fmla="*/ 39240 h 1063440"/>
              <a:gd name="textAreaBottom" fmla="*/ 849240 h 1063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8200" y="45396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78520" y="44956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ffff"/>
                </a:solidFill>
                <a:latin typeface="Times New Roman"/>
              </a:rPr>
              <a:t>100 000 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514600"/>
            <a:ext cx="40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ff33"/>
                </a:solidFill>
                <a:latin typeface="Times New Roman"/>
              </a:rPr>
              <a:t>1 / 10 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4T07:33:09Z</dcterms:created>
  <dc:creator>Delacote</dc:creator>
  <dc:description/>
  <dc:language>en-US</dc:language>
  <cp:lastModifiedBy>Delacote</cp:lastModifiedBy>
  <dcterms:modified xsi:type="dcterms:W3CDTF">2000-11-22T15:20:23Z</dcterms:modified>
  <cp:revision>15</cp:revision>
  <dc:subject/>
  <dc:title>Aucun titre de diapositive</dc:title>
</cp:coreProperties>
</file>