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ISSE.WAV" ContentType="audio/x-wav"/>
  <Override PartName="/ppt/media/Crissement%20de%20freins.wav" ContentType="audio/x-wav"/>
  <Override PartName="/ppt/media/COUR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B7C-E250-4585-9F1B-F2695CB4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80C-3DFD-4D05-AC21-F93DC4D9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3C2-8D8B-4DC6-A6B5-041B37EF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250-2C9E-42CC-A7B8-3D59F97E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93A-1EFB-42D5-870D-69DE6364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6D8-11A0-482F-BFC0-6AA02B8C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2B0-CD49-4C67-A2CC-E175457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C25-6717-4B16-AF98-2269953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35F-C03A-4EA2-A42F-05EE5AD8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C9C-C08E-4535-9C43-C34FFAA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BD2-5A31-4545-AF26-6CEB9E0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2AA-F9AD-49A1-AB0D-7EB9E5F1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4CAF-32C8-4ADD-88AF-1EC5A9E0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rissement%20de%20frein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UR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d60093"/>
                </a:solidFill>
                <a:uFillTx/>
                <a:latin typeface="Times New Roman"/>
              </a:rPr>
              <a:t>CALCUL MENT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362320"/>
            <a:ext cx="7010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Puiss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191120"/>
            <a:ext cx="441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runo DEL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Collège de MASEV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58672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our éviter les coups d ’oeil inopportuns aux conséquences parfois fâcheuses deux élèves voisins répondent aux questions de couleurs différentes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7200" y="838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920" y="68580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8352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5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1240" y="10288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080" y="91440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1880" y="10256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4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24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080" y="8380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88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4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8600" y="8002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440" y="6858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00" y="7970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3520" y="10288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9144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520" y="10256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8600" y="8002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3440" y="6858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00" y="7970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4920" y="8002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9760" y="6858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920" y="7970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9840" y="8762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4680" y="7621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480" y="8730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288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En utilisant les règles de calcul et/ou votre leçon écrire le résultat sous forme d’un nombre entier ou décim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49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97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9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9840" y="8762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4680" y="7621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0480" y="8730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7480" y="914400"/>
            <a:ext cx="2577960" cy="106380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37080" y="102564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5760" y="800280"/>
            <a:ext cx="19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080" y="685800"/>
            <a:ext cx="2577960" cy="106380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520" y="79704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09680" y="266688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99"/>
                </a:solidFill>
                <a:latin typeface="Times New Roman"/>
              </a:rPr>
              <a:t>Poser les sty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680" y="53352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éparez-v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419720"/>
            <a:ext cx="26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OTE M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TE FENE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03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094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720" y="72072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4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502920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7040" y="723960"/>
            <a:ext cx="15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6094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72072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4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49528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00" y="5716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040" y="4572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200" y="5684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 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50292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200" y="114300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040" y="102888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200" y="113976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 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0292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5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/ 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3520" y="8031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68904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4520" y="80028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5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 / 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5029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4T07:33:09Z</dcterms:created>
  <dc:creator>Delacote</dc:creator>
  <dc:description/>
  <dc:language>en-US</dc:language>
  <cp:lastModifiedBy>Delacote</cp:lastModifiedBy>
  <dcterms:modified xsi:type="dcterms:W3CDTF">1999-11-25T18:35:15Z</dcterms:modified>
  <cp:revision>14</cp:revision>
  <dc:subject/>
  <dc:title>Aucun titre de diapositive</dc:title>
</cp:coreProperties>
</file>